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8D9-761D-4921-A0FB-2C980C61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302-9BBF-4054-9BDD-2525D68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A85-C632-4212-A734-65C3ACFD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90B-63FB-4045-8CFA-8410D0C0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5DE9-B70F-490D-9A60-648F63D8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4B8E-58DC-43EB-AD76-96DDBAED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84B3-B6A3-4B0F-BEB1-F3EC262B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0CD7-787A-4376-87E1-99BB7B8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AC71-4548-4769-816A-5AF88CF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C2E6-FD5A-4BC3-BC73-E00A1694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F5A3-318D-4FE4-B056-30CA502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AAF-46E8-46BB-BCE1-813F0949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DD25-9277-4F68-B86B-0D1BCD6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D011-4333-4437-9D63-F605B7FB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D126-33D3-491E-8C31-DBF3AF7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25E4-A60B-443F-B037-67F53FCB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AD8F-A57C-44F4-BAFF-43A77662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DB93-3D25-4D9A-AB17-A3AE04DF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0A44-F0DE-40E9-9AA2-31918B5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B41D-5831-40D1-83F6-A584FC52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B789-BD4F-4B05-8EC4-B04089D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D888-A064-45B9-BD51-35C7C81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D70-209A-48E3-8910-E4270BC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06C7-7C92-4EBB-9B59-F14B22B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40D0-C84F-44A4-A236-3862DA02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FB03-714F-4A7C-B325-A0C93DDD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AD1B-4E29-4FD2-AFC1-7EA55FD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46F4-F4B0-4360-A6FA-8DA82632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5D65-574F-49D2-867C-8392FC0B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897B-6CF5-49E9-A7B4-86B47915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6D33-05AF-4AF0-91DF-3D044719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A15C-B797-469A-8C70-BBFA6F96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05C8-89CF-4A6A-984C-CFC6389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CD2-17E4-41B9-9C67-C2F4A3C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3581-EC69-47EA-A3DC-AA1D5EA2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67B5-8812-4AEC-877A-3A19109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1C924-A154-4658-9D65-855A550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3A5B-D314-45BE-9BDE-A798A421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1063-635D-475A-883B-4221A0B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445D-4490-4AD5-B5B8-EAFB1C0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30AD-F2DB-45B2-AFE4-6ED6F079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A5B1-2F79-4389-8C89-7D46C08A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0084-FA51-4F34-9EFA-ED7ABB8D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512-8971-4014-963A-A8282AE1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76D-4187-4776-B5EF-DB952B1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8E0-D58C-4389-B74F-BE315CB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C69-8E6C-40B8-9DE3-B73DDF8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591-2817-4661-BBE6-4A7D332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7353-DFA8-4822-88C3-9B5C37A714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A574-C422-4870-89F2-E862A68F7F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ECC7-29BB-46ED-AD76-DFF64ED9711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6CC1-C486-471B-B687-959F4A5896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kidoo.com/99models/index.ht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44600" y="1255680"/>
            <a:ext cx="85280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hapter 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MR1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723520" cy="1554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304920" y="17524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ptual maps give a 2 dimensional view of 2 product attributes relative to other competitive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19720" y="3200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514600" y="45720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554720" y="29368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 flipV="1">
            <a:off x="3429000" y="5867280"/>
            <a:ext cx="14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632480" y="58323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vy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117520" y="39276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004440" y="40035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086600" y="24382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M Allows Marketers to define the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zing the Mark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ing Survey questions to reveal more than the obvio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oss-Tabulation:  Comparing the answer on one survey question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g: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1) How old are you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0-4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1-8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2) Where do you live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ity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un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ook at the answers to each question and ask do younger people have a propensity to live in the city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egmentation I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lacing prospective buyers into groups (segments) 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) Have common needs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) will respond similarly to a given set of marketing 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y Segment a Marke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rganizations have limited budgets.  Because of this coupled with the need  to maximize profits or maximize shareholder value, most organizations have to make choi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icking one or a few key segments to target sales allows organizations to channel their scarce resources most effective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en to Segment a Mark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You should segment your market only if in doing it you can eithe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Increase sa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Increase profit 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Increase Return on Investment (ROI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rganizations often achieve this b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elling a single product to several markets – Selling baking soda to bakers and baking soda to athletes as deodoriz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elling several products to several markets – usually the domain of larger firms – car companies make different models for different types of markets/consum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ass-customization – this is a new trend that harnesses the power of logistics management and information management systems in such a way that companies can build a product to meet an individual’s taste while at the same time carefully control the costs of doing th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Form Prospective buyers into Se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o so only i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you can increase profit/ROI by doing it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only if you can clearly form segments that contain people with similar nee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The difference between the segments are substantial enough to warrant the seg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It is feasible – the cost of reaching the segment is less than the potential revenue received from that seg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ays to segment a consumer marke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Family Siz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Lifestyl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otential Benefits Offere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9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Usage Ra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Ways to segment an organizational marke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C co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umber of employe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2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Form Products to be sold into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reak products into categories that match buyers nee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Eg: </a:t>
            </a:r>
            <a:r>
              <a:rPr b="0" lang="en-GB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Skidoo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offer 7 lines of snowmobile models to meet every tas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3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velop a Market Product grid and estimate the size, growth, competitive position, cost of reaching each market, as well as assessing the organizations objecti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hoose a segment or segments that best suit the organizations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s in Segmenting and targeting markets (4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ake Marketing Actions to reach the targe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are two basic stratagies to sell products in a competitive enviro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ead to Head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- Direct competition, comparing your product with the competitors on similar attributes.  Duracell-Energis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- Emphasising differences among your products and others.  Stress unique aspects of the produc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17:14:48Z</dcterms:created>
  <dc:creator>Debbie Vincent</dc:creator>
  <dc:description/>
  <dc:language>en-US</dc:language>
  <cp:lastModifiedBy>paul.tilley</cp:lastModifiedBy>
  <dcterms:modified xsi:type="dcterms:W3CDTF">2011-03-24T13:42:26Z</dcterms:modified>
  <cp:revision>6</cp:revision>
  <dc:subject/>
  <dc:title>Market Segmentation, Targeting and Positio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